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D8A-39D5-4ACF-8A3E-F07E7FEC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2CC8-198A-49ED-8237-C7EE3D6C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F5C-41D2-4EE5-AF91-7E4441FB7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F4EE-E836-4002-B400-8137752D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F63-43BB-4D9E-8943-782AF7F4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FD74-E4A5-4691-BCB4-5CB435AD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F3D8-2D4D-4E90-86AC-F2D98CDF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B3E-CA62-4651-9DB8-98BBA713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DC85-5E08-434F-AD9E-76902241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A113-202F-4E1D-B71E-14CB64F8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AB1-B0AD-4319-82C8-CAF69096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A8DD-09FD-4995-8004-A47409C1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7127-9660-4D61-92D6-146BDF7B3AFE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657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Administrator</cp:lastModifiedBy>
  <dcterms:modified xsi:type="dcterms:W3CDTF">2006-06-13T21:28:38Z</dcterms:modified>
  <cp:revision>15</cp:revision>
  <dc:subject/>
  <dc:title>Slajd 1</dc:title>
</cp:coreProperties>
</file>